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FA12-B0C1-4021-9964-ACE92D25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95A-0EF1-471D-8BC2-8C772C07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ACC-82ED-4261-844B-D82371AD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AE9-84B5-4DB2-802C-E88B4BAA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42D3-630D-42A5-BAD2-B3E22A60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C70E-089C-4759-BA31-52E42031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9CC7-2E9B-486C-A985-348881A4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09B8-4134-44A1-97BF-ADBB518F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CBB1-2B78-4222-8E11-5770A267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DF62-559D-4752-8B0B-383AF540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E63B-AC30-4FAE-9BC5-60EC1EB8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87B-DF14-488B-8490-A30375D4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0D66-77A7-4C52-B677-57CF16DF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A226-07E6-4054-92E5-6D0B5ED7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CC30-B2C4-45E3-9E1D-80FF5268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29BD-1377-4D40-AAA8-B3B793B8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8017-4DA5-4FAF-8AFE-2FB126E6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6729-9865-4210-93CB-CB7D9DD8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A0E-C4F1-4977-885D-593DC4D2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617-AA72-4D31-8E2F-41285D3C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3AD-F1EF-4F08-BC6E-7F27FB81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23D-2ED5-449C-9C68-19F45893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2BC-8BCA-4BF5-AF19-A7BE91B4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D9B-BF98-49F5-B6ED-4E67108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329B-3126-4857-ABB2-BF56546B823A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1874-EBE9-4427-8CF5-0DC3AC9E2972}" type="slidenum">
              <a:rPr b="0" lang="pl-PL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080" y="213372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ffcc00"/>
                </a:solidFill>
                <a:latin typeface="Times New Roman"/>
              </a:rPr>
              <a:t>FUNKCJA JEDNEJ ZMIENNEJ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14400" y="20574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różnowartościowa jeżeli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dokładnie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92360" y="4653000"/>
            <a:ext cx="568800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6000" spc="-1" strike="noStrike">
                <a:solidFill>
                  <a:srgbClr val="ffffcc"/>
                </a:solidFill>
                <a:latin typeface="Symbol"/>
                <a:ea typeface="Symbol"/>
              </a:rPr>
              <a:t>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1" lang="pl-PL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1" lang="pl-PL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1447920" y="6094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Oval 3"/>
          <p:cNvSpPr/>
          <p:nvPr/>
        </p:nvSpPr>
        <p:spPr>
          <a:xfrm>
            <a:off x="4952880" y="609480"/>
            <a:ext cx="17528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981080" y="609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22860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75248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4864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5715000" y="1676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>
            <a:off x="2286000" y="83808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2666880" y="1066680"/>
            <a:ext cx="281952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1981080" y="1676520"/>
            <a:ext cx="373392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762120" y="609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7086600" y="609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762120" y="2209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nie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1447920" y="3200400"/>
            <a:ext cx="17524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5105520" y="3200400"/>
            <a:ext cx="1981080" cy="15238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19810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26668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7524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50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334120" y="3886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3244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8672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2286000" y="3429000"/>
            <a:ext cx="3429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29"/>
          <p:cNvSpPr/>
          <p:nvPr/>
        </p:nvSpPr>
        <p:spPr>
          <a:xfrm>
            <a:off x="3048120" y="3886200"/>
            <a:ext cx="22860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30"/>
          <p:cNvSpPr/>
          <p:nvPr/>
        </p:nvSpPr>
        <p:spPr>
          <a:xfrm>
            <a:off x="1981080" y="434340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621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Rectangle 33"/>
          <p:cNvSpPr/>
          <p:nvPr/>
        </p:nvSpPr>
        <p:spPr>
          <a:xfrm>
            <a:off x="7683480" y="3432240"/>
            <a:ext cx="6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106668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różnowartościow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7467480" y="3429000"/>
            <a:ext cx="304920" cy="45720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Obrazem zbioru AcX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wartości funkcji f dla argumentów ze zbioru 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468360" y="4133880"/>
                <a:ext cx="83739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6"/>
          <p:cNvSpPr/>
          <p:nvPr/>
        </p:nvSpPr>
        <p:spPr>
          <a:xfrm>
            <a:off x="755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5219640" y="1197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835280" y="2781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227640" y="2565360"/>
            <a:ext cx="144000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979560" y="333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5799240" y="434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1622520" y="21844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5799240" y="1803240"/>
            <a:ext cx="15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(A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2771640" y="3357720"/>
            <a:ext cx="3883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4363920" y="259560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14400" y="1747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rzeciwobrazem zbioru CcY, wyznaczonym przez funkcję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których obrazy należą do zbioru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971640" y="4227480"/>
                <a:ext cx="7081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900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5364000" y="1413000"/>
            <a:ext cx="3024360" cy="3456000"/>
          </a:xfrm>
          <a:prstGeom prst="octagon">
            <a:avLst>
              <a:gd name="adj" fmla="val 29287"/>
            </a:avLst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Oval 4"/>
          <p:cNvSpPr/>
          <p:nvPr/>
        </p:nvSpPr>
        <p:spPr>
          <a:xfrm>
            <a:off x="1979640" y="2997360"/>
            <a:ext cx="1368360" cy="115236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6372360" y="2781360"/>
            <a:ext cx="1439640" cy="1368360"/>
          </a:xfrm>
          <a:prstGeom prst="rec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123920" y="5493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5943600" y="65088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1766880" y="2400480"/>
            <a:ext cx="15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pl-PL" sz="4400" spc="-1" strike="noStrike" baseline="30000">
                <a:solidFill>
                  <a:srgbClr val="ffffcc"/>
                </a:solidFill>
                <a:latin typeface="Times New Roman"/>
              </a:rPr>
              <a:t>-1</a:t>
            </a: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(C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943600" y="2019240"/>
            <a:ext cx="15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2916360" y="3573360"/>
            <a:ext cx="3882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4508640" y="2811600"/>
            <a:ext cx="85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5"/>
          <p:cNvSpPr/>
          <p:nvPr/>
        </p:nvSpPr>
        <p:spPr>
          <a:xfrm>
            <a:off x="539640" y="727200"/>
            <a:ext cx="82090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Jeśli zbiory X i Y są zbiorami liczbowymi, to funkcję f nazywamy liczbową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iszemy: f:D     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em funkcji f nazywamy zbiór wszystkich punktów płaszczyzny o współrzędnych (x,y) takich, że x należy do dziedziny funkcji, a y jest odpowiadającą mu wartością funkcji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6"/>
              <p:cNvSpPr txBox="1"/>
              <p:nvPr/>
            </p:nvSpPr>
            <p:spPr>
              <a:xfrm>
                <a:off x="2843280" y="2060640"/>
                <a:ext cx="5047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571760" y="5442120"/>
                <a:ext cx="6168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∧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333360"/>
            <a:ext cx="91440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kres funkcji ZALEŻY OD JEJ DZIEDZINY 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cc"/>
                </a:solidFill>
                <a:uFillTx/>
                <a:latin typeface="Times New Roman"/>
              </a:rPr>
              <a:t>PRZYKŁ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rysuj wykres funkcji y=x+1 przyjmując za dziedzinę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{-3, -1, 0, 2, 4}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&lt;-1,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2001"/>
              </a:spcBef>
              <a:buClr>
                <a:srgbClr val="ffffcc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R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914400" y="1747800"/>
            <a:ext cx="7543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iejscem zerowym funkcji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nazywamy zbiór argumentów funkcji f, dla których wartość funkcji jest równa 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Geometrycznie: miejsce zerowe funkcji jest wyznaczone przez punkt(y) przecięcia wykresu z osią OX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14400" y="549360"/>
            <a:ext cx="75438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a może nie mieć, mieć jedno, kilka, lub nieskończenie wiele miejsc zerowyc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Wyznaczyć miejsce zerowe funkcji (rachunkowo), to znaczy rozwiązać równanie f(x)=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4"/>
          <p:cNvSpPr txBox="1"/>
          <p:nvPr/>
        </p:nvSpPr>
        <p:spPr>
          <a:xfrm>
            <a:off x="990720" y="380880"/>
            <a:ext cx="23619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 Antiqua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4920" y="1341360"/>
            <a:ext cx="8534160" cy="52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Arial"/>
              </a:rPr>
              <a:t>Niech dane będą dwa niepuste zbiory  X i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żeli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każdemu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elementowi x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X przyporządkujemy </a:t>
            </a:r>
            <a:r>
              <a:rPr b="1" lang="pl-PL" sz="2800" spc="-1" strike="noStrike" u="sng">
                <a:solidFill>
                  <a:srgbClr val="ffffcc"/>
                </a:solidFill>
                <a:uFillTx/>
                <a:latin typeface="Times New Roman"/>
              </a:rPr>
              <a:t>dokładnie jeden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element y</a:t>
            </a:r>
            <a:r>
              <a:rPr b="1" lang="pl-PL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Y to mówimy, że na zbiorze X została określona funkcja o wartościach w zbiorze 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iszemy:                                      f- symbol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: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                                  x- argument funkcj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                                     y - wartość funkcji w pkt. 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- zbiór argumentów (dziedzin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- przeciwdziedzi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3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WordArt 1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914400" y="174780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są równe, jeśli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20"/>
              <p:cNvSpPr txBox="1"/>
              <p:nvPr/>
            </p:nvSpPr>
            <p:spPr>
              <a:xfrm>
                <a:off x="4572000" y="1773360"/>
                <a:ext cx="47671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2687760" y="3284640"/>
                <a:ext cx="3971880" cy="22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limLow>
                          <m:e>
                            <m:r>
                              <m:t xml:space="preserve">∀</m:t>
                            </m:r>
                          </m:e>
                          <m:lim>
                            <m:r>
                              <m:t xml:space="preserve">x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914400" y="533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Na funkcjach liczbowych można wykonywać działania arytmetyczn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13"/>
              <p:cNvSpPr txBox="1"/>
              <p:nvPr/>
            </p:nvSpPr>
            <p:spPr>
              <a:xfrm>
                <a:off x="1619280" y="1989000"/>
                <a:ext cx="5473800" cy="407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WordArt 20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rosn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3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Text Box 24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rosn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malejąc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1"/>
              <p:cNvSpPr txBox="1"/>
              <p:nvPr/>
            </p:nvSpPr>
            <p:spPr>
              <a:xfrm>
                <a:off x="376200" y="3068640"/>
                <a:ext cx="822816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Text Box 32"/>
          <p:cNvSpPr/>
          <p:nvPr/>
        </p:nvSpPr>
        <p:spPr>
          <a:xfrm>
            <a:off x="1060560" y="501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raz ze wzrostem argumentów maleją wartości funkcj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92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stała w zbiorze AcD, g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1"/>
              <p:cNvSpPr txBox="1"/>
              <p:nvPr/>
            </p:nvSpPr>
            <p:spPr>
              <a:xfrm>
                <a:off x="1766880" y="3068640"/>
                <a:ext cx="5446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∀</m:t>
                        </m:r>
                      </m:e>
                      <m:li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Text Box 32"/>
          <p:cNvSpPr/>
          <p:nvPr/>
        </p:nvSpPr>
        <p:spPr>
          <a:xfrm>
            <a:off x="1060560" y="501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są stał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914400" y="681120"/>
            <a:ext cx="754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Pojęcia: funkcja rosnąca, malejąca, stała składają się na pojęcie </a:t>
            </a:r>
            <a:r>
              <a:rPr b="1" lang="pl-PL" sz="3600" spc="-1" strike="noStrike">
                <a:solidFill>
                  <a:srgbClr val="ffff00"/>
                </a:solidFill>
                <a:latin typeface="Times New Roman"/>
              </a:rPr>
              <a:t>monotoniczności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funkcj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Funkcje rosnące lub malejące nazywamy ściśle monotonicznymi. Funkcje nierosnące lub niemalejące nazywamy monotonicznym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WordArt 29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51" name="Text Box 30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31"/>
              <p:cNvSpPr txBox="1"/>
              <p:nvPr/>
            </p:nvSpPr>
            <p:spPr>
              <a:xfrm>
                <a:off x="2532240" y="2870280"/>
                <a:ext cx="391464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33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parzystej jest symetryczny względem osi O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1" name="Text Box 39"/>
          <p:cNvSpPr/>
          <p:nvPr/>
        </p:nvSpPr>
        <p:spPr>
          <a:xfrm>
            <a:off x="914400" y="1747800"/>
            <a:ext cx="797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nieparzysta, jeśli dla każdego x należącego do D zachodz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40"/>
              <p:cNvSpPr txBox="1"/>
              <p:nvPr/>
            </p:nvSpPr>
            <p:spPr>
              <a:xfrm>
                <a:off x="2333520" y="2852640"/>
                <a:ext cx="431172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Text Box 41"/>
          <p:cNvSpPr/>
          <p:nvPr/>
        </p:nvSpPr>
        <p:spPr>
          <a:xfrm>
            <a:off x="914400" y="50101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UWAGA!!! Wykres funkcji nieparzystej jest symetryczny względem pkt. O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Line 1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Line 1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Line 1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Line 1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Line 1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Line 2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Line 2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Line 2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Line 2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Line 2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Line 2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Line 2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Line 29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Line 30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Line 31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Line 32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Line 3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Line 34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Line 3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Line 3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Line 37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WordArt 38"/>
          <p:cNvSpPr txBox="1"/>
          <p:nvPr/>
        </p:nvSpPr>
        <p:spPr>
          <a:xfrm>
            <a:off x="914400" y="533520"/>
            <a:ext cx="27432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31" name="Text Box 39"/>
          <p:cNvSpPr/>
          <p:nvPr/>
        </p:nvSpPr>
        <p:spPr>
          <a:xfrm>
            <a:off x="914400" y="1747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 jest okresowa, jeśli istnieje taka liczba T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≠0, że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40"/>
              <p:cNvSpPr txBox="1"/>
              <p:nvPr/>
            </p:nvSpPr>
            <p:spPr>
              <a:xfrm>
                <a:off x="2220840" y="2941560"/>
                <a:ext cx="4538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Text Box 41"/>
          <p:cNvSpPr/>
          <p:nvPr/>
        </p:nvSpPr>
        <p:spPr>
          <a:xfrm>
            <a:off x="611280" y="5589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(wartości funkcji „cyklicznie” powtarzają się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Line 4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Line 4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Line 4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Line 4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Line 4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Line 5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Line 51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Line 52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Line 53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Line 5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Line 5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Line 5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Line 5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Line 5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Line 59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Line 60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Line 61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Line 62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Line 63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Line 64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Line 65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Line 66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Line 6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Line 68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WordArt 69"/>
          <p:cNvSpPr txBox="1"/>
          <p:nvPr/>
        </p:nvSpPr>
        <p:spPr>
          <a:xfrm>
            <a:off x="2133720" y="2381400"/>
            <a:ext cx="4662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ADAN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04920" y="22860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unkcję można określić na różne sposob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słownie- np. Każdemu uczniowi klasy I D  przyporządkowujemy jego numer w dziennik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rafem        X                                       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zorem   y= x + 1,  X=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abelką               </a:t>
            </a:r>
            <a:r>
              <a:rPr b="1" lang="pl-PL" sz="2400" spc="-1" strike="noStrike" u="sng">
                <a:solidFill>
                  <a:srgbClr val="ffffcc"/>
                </a:solidFill>
                <a:uFillTx/>
                <a:latin typeface="Times New Roman"/>
              </a:rPr>
              <a:t>x       a      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       1    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1447920" y="2286000"/>
            <a:ext cx="13716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2666880"/>
            <a:ext cx="762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828800" y="236232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4267080" y="2286000"/>
            <a:ext cx="152424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48320" y="236232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2209680" y="2590920"/>
            <a:ext cx="24386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133720" y="3124080"/>
            <a:ext cx="24382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685800" y="843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1. Wyznacz dziedzinę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293840" y="2151000"/>
                <a:ext cx="6265800" cy="37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3" name="AutoShape 4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187280" y="135108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2. Podaj przykład (graf, tabelka, wykres) funkcji, któr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„na” i nie jest różnowartościow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jest różnowartościowa i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nie jest różnowartościowa i nie jest „n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AutoShape 11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1187280" y="15368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3. Na podstawie wykresu (na tablicy) odczytaj własności funkcji - dziedzinę, zbiór wartości, monotoniczność, parzystość, okresowość, m-ca zerowe, wartości (dodatnie, ujemne),  obraz i przeciwobraz (zadanych zbiorów), czy jest „na”, różnowartościow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900000" y="1440000"/>
            <a:ext cx="7632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4. Dany wykres funkcji (tablica) przekształć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osi O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punktu  O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symetrii względem dwusiecznej kąta  XO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- w translacji o wektor [3,-1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AutoShape 12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5. Zbadaj parzyst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9" name="Object 14"/>
              <p:cNvSpPr txBox="1"/>
              <p:nvPr/>
            </p:nvSpPr>
            <p:spPr>
              <a:xfrm>
                <a:off x="2529000" y="2276640"/>
                <a:ext cx="391464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Object 11"/>
              <p:cNvSpPr txBox="1"/>
              <p:nvPr/>
            </p:nvSpPr>
            <p:spPr>
              <a:xfrm>
                <a:off x="2340000" y="2155680"/>
                <a:ext cx="408456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0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6. Zbadaj monotoniczność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Object 11"/>
              <p:cNvSpPr txBox="1"/>
              <p:nvPr/>
            </p:nvSpPr>
            <p:spPr>
              <a:xfrm>
                <a:off x="1547640" y="2421000"/>
                <a:ext cx="6480360" cy="40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2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7. Dana jest funkcj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Object 14"/>
              <p:cNvSpPr txBox="1"/>
              <p:nvPr/>
            </p:nvSpPr>
            <p:spPr>
              <a:xfrm>
                <a:off x="4425840" y="1341360"/>
                <a:ext cx="334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Text Box 15"/>
          <p:cNvSpPr/>
          <p:nvPr/>
        </p:nvSpPr>
        <p:spPr>
          <a:xfrm>
            <a:off x="1116000" y="213372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Wyznacz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Line 2"/>
          <p:cNvSpPr/>
          <p:nvPr/>
        </p:nvSpPr>
        <p:spPr>
          <a:xfrm>
            <a:off x="1600200" y="10666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2514600" y="10666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133720" y="2743200"/>
            <a:ext cx="380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Line 6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Line 7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Line 8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Line 9"/>
          <p:cNvSpPr/>
          <p:nvPr/>
        </p:nvSpPr>
        <p:spPr>
          <a:xfrm>
            <a:off x="2514600" y="35053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Line 10"/>
          <p:cNvSpPr/>
          <p:nvPr/>
        </p:nvSpPr>
        <p:spPr>
          <a:xfrm flipH="1">
            <a:off x="2514240" y="3505320"/>
            <a:ext cx="228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900000" y="1440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cc"/>
                </a:solidFill>
                <a:latin typeface="Times New Roman"/>
              </a:rPr>
              <a:t>8. Wyznacz miejsca zerowe funkcj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AutoShape 13"/>
          <p:cNvSpPr/>
          <p:nvPr/>
        </p:nvSpPr>
        <p:spPr>
          <a:xfrm>
            <a:off x="7775640" y="260280"/>
            <a:ext cx="1044360" cy="811440"/>
          </a:xfrm>
          <a:custGeom>
            <a:avLst/>
            <a:gdLst>
              <a:gd name="textAreaLeft" fmla="*/ 52560 w 1044360"/>
              <a:gd name="textAreaRight" fmla="*/ 991800 w 1044360"/>
              <a:gd name="textAreaTop" fmla="*/ 52560 h 811440"/>
              <a:gd name="textAreaBottom" fmla="*/ 758880 h 811440"/>
            </a:gdLst>
            <a:ahLst/>
            <a:rect l="textAreaLeft" t="textAreaTop" r="textAreaRight" b="textAreaBottom"/>
            <a:pathLst>
              <a:path w="27797" h="21600">
                <a:moveTo>
                  <a:pt x="0" y="0"/>
                </a:moveTo>
                <a:lnTo>
                  <a:pt x="27797" y="0"/>
                </a:lnTo>
                <a:lnTo>
                  <a:pt x="27797" y="21600"/>
                </a:lnTo>
                <a:lnTo>
                  <a:pt x="0" y="21600"/>
                </a:lnTo>
                <a:close/>
              </a:path>
              <a:path fill="lightenLess" w="27797" h="21600">
                <a:moveTo>
                  <a:pt x="0" y="0"/>
                </a:moveTo>
                <a:lnTo>
                  <a:pt x="27797" y="0"/>
                </a:lnTo>
                <a:lnTo>
                  <a:pt x="26397" y="1400"/>
                </a:lnTo>
                <a:lnTo>
                  <a:pt x="1400" y="1400"/>
                </a:lnTo>
                <a:close/>
              </a:path>
              <a:path fill="darken" w="27797" h="21600">
                <a:moveTo>
                  <a:pt x="27797" y="0"/>
                </a:moveTo>
                <a:lnTo>
                  <a:pt x="27797" y="21600"/>
                </a:lnTo>
                <a:lnTo>
                  <a:pt x="26397" y="20200"/>
                </a:lnTo>
                <a:lnTo>
                  <a:pt x="26397" y="1400"/>
                </a:lnTo>
                <a:close/>
              </a:path>
              <a:path fill="darkenLess" w="27797" h="21600">
                <a:moveTo>
                  <a:pt x="2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7" y="20200"/>
                </a:lnTo>
                <a:close/>
              </a:path>
              <a:path fill="lighten" w="2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7" h="21600">
                <a:moveTo>
                  <a:pt x="6892" y="7493"/>
                </a:moveTo>
                <a:lnTo>
                  <a:pt x="10400" y="7493"/>
                </a:lnTo>
                <a:lnTo>
                  <a:pt x="10400" y="12828"/>
                </a:lnTo>
                <a:cubicBezTo>
                  <a:pt x="10400" y="13751"/>
                  <a:pt x="11201" y="14482"/>
                  <a:pt x="12236" y="14482"/>
                </a:cubicBezTo>
                <a:lnTo>
                  <a:pt x="13899" y="14482"/>
                </a:lnTo>
                <a:cubicBezTo>
                  <a:pt x="14934" y="14482"/>
                  <a:pt x="15735" y="13751"/>
                  <a:pt x="15735" y="12828"/>
                </a:cubicBezTo>
                <a:lnTo>
                  <a:pt x="15735" y="7493"/>
                </a:lnTo>
                <a:lnTo>
                  <a:pt x="13899" y="7493"/>
                </a:lnTo>
                <a:lnTo>
                  <a:pt x="17406" y="3985"/>
                </a:lnTo>
                <a:lnTo>
                  <a:pt x="21079" y="7493"/>
                </a:lnTo>
                <a:lnTo>
                  <a:pt x="19243" y="7493"/>
                </a:lnTo>
                <a:lnTo>
                  <a:pt x="19243" y="12828"/>
                </a:lnTo>
                <a:cubicBezTo>
                  <a:pt x="19243" y="15596"/>
                  <a:pt x="16666" y="18155"/>
                  <a:pt x="13899" y="18155"/>
                </a:cubicBezTo>
                <a:lnTo>
                  <a:pt x="12236" y="18155"/>
                </a:lnTo>
                <a:cubicBezTo>
                  <a:pt x="9469" y="18155"/>
                  <a:pt x="6892" y="15596"/>
                  <a:pt x="6892" y="1282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16"/>
              <p:cNvSpPr txBox="1"/>
              <p:nvPr/>
            </p:nvSpPr>
            <p:spPr>
              <a:xfrm>
                <a:off x="2284560" y="2155680"/>
                <a:ext cx="4197240" cy="408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4"/>
          <p:cNvSpPr/>
          <p:nvPr/>
        </p:nvSpPr>
        <p:spPr>
          <a:xfrm flipV="1">
            <a:off x="1600200" y="1523880"/>
            <a:ext cx="0" cy="4114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990720" y="5257800"/>
            <a:ext cx="48765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rc 14"/>
          <p:cNvSpPr/>
          <p:nvPr/>
        </p:nvSpPr>
        <p:spPr>
          <a:xfrm>
            <a:off x="1295280" y="2060640"/>
            <a:ext cx="3581640" cy="357804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62520" y="2743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=f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57200" y="228600"/>
            <a:ext cx="1752480" cy="459720"/>
          </a:xfrm>
          <a:prstGeom prst="rect">
            <a:avLst/>
          </a:prstGeom>
          <a:solidFill>
            <a:srgbClr val="2e12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wykres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838080" y="1523880"/>
            <a:ext cx="457200" cy="459720"/>
          </a:xfrm>
          <a:prstGeom prst="rect">
            <a:avLst/>
          </a:prstGeom>
          <a:solidFill>
            <a:srgbClr val="25090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562720" y="5486400"/>
            <a:ext cx="8380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Przykł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523880" y="914400"/>
            <a:ext cx="5486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1828800" y="1523880"/>
            <a:ext cx="160020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5029200" y="1523880"/>
            <a:ext cx="16765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523880"/>
            <a:ext cx="380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562720" y="15238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!  +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666880" y="1752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666880" y="236232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666880" y="2895480"/>
            <a:ext cx="28958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609480" y="335268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a)=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b)=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(c)=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609480" y="51814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609480"/>
            <a:ext cx="380880" cy="459720"/>
          </a:xfrm>
          <a:prstGeom prst="rect">
            <a:avLst/>
          </a:prstGeom>
          <a:solidFill>
            <a:srgbClr val="6600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699160" y="60660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2"/>
          <p:cNvSpPr/>
          <p:nvPr/>
        </p:nvSpPr>
        <p:spPr>
          <a:xfrm>
            <a:off x="1523880" y="762120"/>
            <a:ext cx="182880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5105520" y="762120"/>
            <a:ext cx="1981080" cy="12952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05120" y="762120"/>
            <a:ext cx="53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4382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4382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905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33412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  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2286000" y="1371600"/>
            <a:ext cx="30481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7" name="AutoShape 10"/>
          <p:cNvCxnSpPr>
            <a:stCxn id="135" idx="1"/>
            <a:endCxn id="133" idx="2"/>
          </p:cNvCxnSpPr>
          <p:nvPr/>
        </p:nvCxnSpPr>
        <p:spPr>
          <a:xfrm flipV="1" rot="10800000">
            <a:off x="2666160" y="1371240"/>
            <a:ext cx="2667960" cy="457920"/>
          </a:xfrm>
          <a:prstGeom prst="curvedConnector5">
            <a:avLst>
              <a:gd name="adj1" fmla="val 45708"/>
              <a:gd name="adj2" fmla="val 74980"/>
              <a:gd name="adj3" fmla="val 45708"/>
            </a:avLst>
          </a:prstGeom>
          <a:ln w="0">
            <a:noFill/>
          </a:ln>
        </p:spPr>
      </p:cxnSp>
      <p:sp>
        <p:nvSpPr>
          <p:cNvPr id="138" name="Line 16"/>
          <p:cNvSpPr/>
          <p:nvPr/>
        </p:nvSpPr>
        <p:spPr>
          <a:xfrm>
            <a:off x="2666880" y="182880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Freeform 19"/>
          <p:cNvSpPr/>
          <p:nvPr/>
        </p:nvSpPr>
        <p:spPr>
          <a:xfrm>
            <a:off x="2728800" y="1608120"/>
            <a:ext cx="2678400" cy="4381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5407200" y="1635120"/>
            <a:ext cx="37800" cy="11592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Freeform 21"/>
          <p:cNvSpPr/>
          <p:nvPr/>
        </p:nvSpPr>
        <p:spPr>
          <a:xfrm>
            <a:off x="5265720" y="1622520"/>
            <a:ext cx="141480" cy="2376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Freeform 22"/>
          <p:cNvSpPr/>
          <p:nvPr/>
        </p:nvSpPr>
        <p:spPr>
          <a:xfrm>
            <a:off x="2819520" y="851040"/>
            <a:ext cx="2590560" cy="28080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5291280" y="1042920"/>
            <a:ext cx="104760" cy="141480"/>
          </a:xfrm>
          <a:prstGeom prst="pie">
            <a:avLst/>
          </a:pr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1752480" y="228600"/>
            <a:ext cx="4572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5737320" y="2970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3809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43000" y="2133720"/>
            <a:ext cx="5943600" cy="459720"/>
          </a:xfrm>
          <a:prstGeom prst="rect">
            <a:avLst/>
          </a:prstGeom>
          <a:solidFill>
            <a:srgbClr val="56002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g(a)=g(b)=g(c)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Oval 29"/>
          <p:cNvSpPr/>
          <p:nvPr/>
        </p:nvSpPr>
        <p:spPr>
          <a:xfrm>
            <a:off x="1523880" y="3505320"/>
            <a:ext cx="182880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Oval 30"/>
          <p:cNvSpPr/>
          <p:nvPr/>
        </p:nvSpPr>
        <p:spPr>
          <a:xfrm>
            <a:off x="5105520" y="3505320"/>
            <a:ext cx="1981080" cy="1371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190512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24382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1905120" y="4191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5396040" y="3733920"/>
            <a:ext cx="8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  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62485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2209680" y="3962520"/>
            <a:ext cx="3186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38"/>
          <p:cNvSpPr/>
          <p:nvPr/>
        </p:nvSpPr>
        <p:spPr>
          <a:xfrm>
            <a:off x="2286000" y="4419720"/>
            <a:ext cx="311004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8380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7391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1"/>
          <p:cNvSpPr/>
          <p:nvPr/>
        </p:nvSpPr>
        <p:spPr>
          <a:xfrm>
            <a:off x="1143000" y="5181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nie każdemu elementowi ze zbioru X przyporządkowano element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2"/>
          <p:cNvSpPr/>
          <p:nvPr/>
        </p:nvSpPr>
        <p:spPr>
          <a:xfrm>
            <a:off x="1600200" y="685800"/>
            <a:ext cx="1905120" cy="1447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Oval 3"/>
          <p:cNvSpPr/>
          <p:nvPr/>
        </p:nvSpPr>
        <p:spPr>
          <a:xfrm>
            <a:off x="5257800" y="685800"/>
            <a:ext cx="220968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9051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4382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382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638680" y="990720"/>
            <a:ext cx="3049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24480" y="838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2666880" y="838080"/>
            <a:ext cx="3657600" cy="152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2209680" y="1295280"/>
            <a:ext cx="3429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>
            <a:off x="2209680" y="1295280"/>
            <a:ext cx="3733920" cy="6098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2666880" y="1600200"/>
            <a:ext cx="3276720" cy="395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59436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914400" y="685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7772400" y="685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33"/>
          <p:cNvSpPr/>
          <p:nvPr/>
        </p:nvSpPr>
        <p:spPr>
          <a:xfrm>
            <a:off x="784080" y="2133720"/>
            <a:ext cx="18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30492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nie jest funkcją, ponieważ 1 elementowi ze zbioru X przyporządkowano kilka elementów ze zbioru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Line 37"/>
          <p:cNvSpPr/>
          <p:nvPr/>
        </p:nvSpPr>
        <p:spPr>
          <a:xfrm flipV="1">
            <a:off x="1600200" y="3503520"/>
            <a:ext cx="0" cy="1906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Line 38"/>
          <p:cNvSpPr/>
          <p:nvPr/>
        </p:nvSpPr>
        <p:spPr>
          <a:xfrm>
            <a:off x="457200" y="51814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78" name="AutoShape 39"/>
          <p:cNvCxnSpPr/>
          <p:nvPr/>
        </p:nvCxnSpPr>
        <p:spPr>
          <a:xfrm flipV="1">
            <a:off x="304920" y="4266360"/>
            <a:ext cx="915120" cy="122004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79" name="Oval 42"/>
          <p:cNvSpPr/>
          <p:nvPr/>
        </p:nvSpPr>
        <p:spPr>
          <a:xfrm>
            <a:off x="1219320" y="4192560"/>
            <a:ext cx="152280" cy="745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0" name="AutoShape 43"/>
          <p:cNvCxnSpPr/>
          <p:nvPr/>
        </p:nvCxnSpPr>
        <p:spPr>
          <a:xfrm>
            <a:off x="1371240" y="4724280"/>
            <a:ext cx="229320" cy="457920"/>
          </a:xfrm>
          <a:prstGeom prst="straightConnector1">
            <a:avLst/>
          </a:prstGeom>
          <a:ln w="9360">
            <a:solidFill>
              <a:srgbClr val="ffffcc"/>
            </a:solidFill>
            <a:miter/>
          </a:ln>
        </p:spPr>
      </p:cxnSp>
      <p:sp>
        <p:nvSpPr>
          <p:cNvPr id="181" name="Oval 44"/>
          <p:cNvSpPr/>
          <p:nvPr/>
        </p:nvSpPr>
        <p:spPr>
          <a:xfrm>
            <a:off x="1219320" y="46497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Oval 48"/>
          <p:cNvSpPr/>
          <p:nvPr/>
        </p:nvSpPr>
        <p:spPr>
          <a:xfrm>
            <a:off x="1600200" y="5181480"/>
            <a:ext cx="76320" cy="1080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83" name="AutoShape 50"/>
          <p:cNvCxnSpPr/>
          <p:nvPr/>
        </p:nvCxnSpPr>
        <p:spPr>
          <a:xfrm flipV="1" rot="10800000">
            <a:off x="1675800" y="3732840"/>
            <a:ext cx="1296000" cy="53388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184" name="Oval 51"/>
          <p:cNvSpPr/>
          <p:nvPr/>
        </p:nvSpPr>
        <p:spPr>
          <a:xfrm>
            <a:off x="1600200" y="4192560"/>
            <a:ext cx="7632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Oval 52"/>
          <p:cNvSpPr/>
          <p:nvPr/>
        </p:nvSpPr>
        <p:spPr>
          <a:xfrm>
            <a:off x="2971800" y="3656160"/>
            <a:ext cx="152280" cy="777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56"/>
          <p:cNvSpPr/>
          <p:nvPr/>
        </p:nvSpPr>
        <p:spPr>
          <a:xfrm>
            <a:off x="3124080" y="4495680"/>
            <a:ext cx="2819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Oval 57"/>
          <p:cNvSpPr/>
          <p:nvPr/>
        </p:nvSpPr>
        <p:spPr>
          <a:xfrm>
            <a:off x="2971800" y="4421160"/>
            <a:ext cx="152280" cy="745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59"/>
          <p:cNvSpPr/>
          <p:nvPr/>
        </p:nvSpPr>
        <p:spPr>
          <a:xfrm>
            <a:off x="457200" y="56386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przyporządkowanie jest funkcją, ponieważ każdemu x przyporządkowany jest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968400" y="3503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61"/>
          <p:cNvSpPr/>
          <p:nvPr/>
        </p:nvSpPr>
        <p:spPr>
          <a:xfrm>
            <a:off x="63244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>
            <a:off x="914400" y="457200"/>
            <a:ext cx="29718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FINICJ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914400" y="236232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Mówimy, że funkcja f: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jest "na", jeżeli każdy element y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Y przyporządkowany jest co najmniej jednemu elementowi x</a:t>
            </a:r>
            <a:r>
              <a:rPr b="1" lang="pl-PL" sz="32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1" lang="pl-PL" sz="3200" spc="-1" strike="noStrike">
                <a:solidFill>
                  <a:srgbClr val="ffffcc"/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2"/>
          <p:cNvSpPr/>
          <p:nvPr/>
        </p:nvSpPr>
        <p:spPr>
          <a:xfrm>
            <a:off x="1752480" y="457200"/>
            <a:ext cx="190512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5410080" y="457200"/>
            <a:ext cx="1981440" cy="16002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362320" y="45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8195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13372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0199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40080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6386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640080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2819520" y="685800"/>
            <a:ext cx="3200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3048120" y="914040"/>
            <a:ext cx="29718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2514600" y="1600200"/>
            <a:ext cx="388620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1219320" y="457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7696080" y="45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44197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w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Oval 18"/>
          <p:cNvSpPr/>
          <p:nvPr/>
        </p:nvSpPr>
        <p:spPr>
          <a:xfrm>
            <a:off x="1752480" y="3048120"/>
            <a:ext cx="190512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Oval 19"/>
          <p:cNvSpPr/>
          <p:nvPr/>
        </p:nvSpPr>
        <p:spPr>
          <a:xfrm>
            <a:off x="5410080" y="3048120"/>
            <a:ext cx="1981440" cy="17524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2819520" y="304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2133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514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019920" y="327672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3048120" y="32767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Line 25"/>
          <p:cNvSpPr/>
          <p:nvPr/>
        </p:nvSpPr>
        <p:spPr>
          <a:xfrm flipV="1">
            <a:off x="2362320" y="3505320"/>
            <a:ext cx="3657600" cy="3808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V="1">
            <a:off x="2819520" y="4114440"/>
            <a:ext cx="3200400" cy="1666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4419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29"/>
          <p:cNvSpPr/>
          <p:nvPr/>
        </p:nvSpPr>
        <p:spPr>
          <a:xfrm>
            <a:off x="91440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30"/>
          <p:cNvSpPr/>
          <p:nvPr/>
        </p:nvSpPr>
        <p:spPr>
          <a:xfrm>
            <a:off x="76960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31"/>
          <p:cNvSpPr/>
          <p:nvPr/>
        </p:nvSpPr>
        <p:spPr>
          <a:xfrm>
            <a:off x="1447920" y="5181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cc"/>
                </a:solidFill>
                <a:latin typeface="Times New Roman"/>
              </a:rPr>
              <a:t>To jest funkcja „na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7:31:02Z</dcterms:created>
  <dc:creator>AP</dc:creator>
  <dc:description/>
  <dc:language>en-US</dc:language>
  <cp:lastModifiedBy>AP</cp:lastModifiedBy>
  <dcterms:modified xsi:type="dcterms:W3CDTF">2015-04-07T03:41:52Z</dcterms:modified>
  <cp:revision>97</cp:revision>
  <dc:subject/>
  <dc:title>FUNKCJA JEDNEJ ZMIENNEJ</dc:title>
</cp:coreProperties>
</file>